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8E78BE0-2FEE-4107-A8CB-9DE77C7EAC2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WSISampleApp1.0_Introduction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Sept. 09,2005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5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6C36C14-CC60-4278-A879-74ECA3E0A2C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10720" y="1177560"/>
            <a:ext cx="828540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Introduction to </a:t>
            </a:r>
            <a:br>
              <a:rPr sz="2800"/>
            </a:b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Nokia Implementation of WSI Sample App</a:t>
            </a:r>
            <a:br>
              <a:rPr sz="2800"/>
            </a:b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in Symbian Series 60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2000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720" y="263520"/>
            <a:ext cx="922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36cc"/>
                </a:solidFill>
                <a:latin typeface="Nokia Large"/>
              </a:rPr>
              <a:t>Nokia Implementation of WSI Sample 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2297160"/>
            <a:ext cx="95392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Nokia implemented only the Client of WSI Sample App, which is running in Symbian Series 60 3</a:t>
            </a:r>
            <a:r>
              <a:rPr b="0" lang="fi-FI" sz="2000" spc="-1" strike="noStrike" baseline="30000">
                <a:solidFill>
                  <a:srgbClr val="000000"/>
                </a:solidFill>
                <a:latin typeface="Nokia Sans Wide"/>
              </a:rPr>
              <a:t>RD</a:t>
            </a: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 ed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ly</a:t>
            </a: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 the user interface level is subjected to be changed to adapt the small screen size of mobile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7240" y="4253040"/>
            <a:ext cx="2729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52680" y="2246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7240" y="4241880"/>
            <a:ext cx="2729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4920" y="444600"/>
            <a:ext cx="953748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36cc"/>
                </a:solidFill>
                <a:latin typeface="Nokia Large"/>
              </a:rPr>
              <a:t>High Level usage </a:t>
            </a: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Times New Roman"/>
              </a:rPr>
              <a:t>scenario</a:t>
            </a: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 </a:t>
            </a:r>
            <a:r>
              <a:rPr b="1" lang="fi-FI" sz="2800" spc="-1" strike="noStrike">
                <a:solidFill>
                  <a:srgbClr val="0036cc"/>
                </a:solidFill>
                <a:latin typeface="Nokia Large"/>
              </a:rPr>
              <a:t>of WSI Sample App in Personal Computer (PC)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5" name=""/>
          <p:cNvSpPr/>
          <p:nvPr/>
        </p:nvSpPr>
        <p:spPr>
          <a:xfrm>
            <a:off x="2452680" y="2205000"/>
            <a:ext cx="990612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1440" bIns="-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webPageFlow" descr=""/>
          <p:cNvPicPr/>
          <p:nvPr/>
        </p:nvPicPr>
        <p:blipFill>
          <a:blip r:embed="rId1"/>
          <a:srcRect l="0" t="12819" r="0" b="23076"/>
          <a:stretch/>
        </p:blipFill>
        <p:spPr>
          <a:xfrm>
            <a:off x="2492280" y="2955960"/>
            <a:ext cx="5943600" cy="2948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81000" y="1639800"/>
            <a:ext cx="8937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Nokia Sans Wide"/>
              </a:rPr>
              <a:t>The application flow in PC as described in the ”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Times New Roman"/>
              </a:rPr>
              <a:t>Supply Chain Management Sample Application Architecture”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36cc"/>
                </a:solidFill>
                <a:latin typeface="Nokia Large"/>
              </a:rPr>
              <a:t>Changes needed to implement Sample App in Series 60 Symbian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9" name=""/>
          <p:cNvSpPr/>
          <p:nvPr/>
        </p:nvSpPr>
        <p:spPr>
          <a:xfrm>
            <a:off x="338040" y="923760"/>
            <a:ext cx="933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llowing changes are needed to implement the WSI Sample App in Symbian mobile phone due to the small screen si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" y="1479600"/>
            <a:ext cx="901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1200" spc="-1" strike="noStrike">
                <a:solidFill>
                  <a:srgbClr val="000000"/>
                </a:solidFill>
                <a:latin typeface="Nokia Sans Wide"/>
              </a:rPr>
              <a:t>WSI Sample App Client is  running in Series 60 smartphones as an independent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04880" y="3294000"/>
            <a:ext cx="5943600" cy="2857320"/>
            <a:chOff x="1604880" y="3294000"/>
            <a:chExt cx="5943600" cy="2857320"/>
          </a:xfrm>
        </p:grpSpPr>
        <p:pic>
          <p:nvPicPr>
            <p:cNvPr id="102" name="webPageFlow" descr=""/>
            <p:cNvPicPr/>
            <p:nvPr/>
          </p:nvPicPr>
          <p:blipFill>
            <a:blip r:embed="rId1"/>
            <a:srcRect l="0" t="12819" r="0" b="23076"/>
            <a:stretch/>
          </p:blipFill>
          <p:spPr>
            <a:xfrm>
              <a:off x="1604880" y="3294000"/>
              <a:ext cx="5943600" cy="28573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03" name=""/>
            <p:cNvSpPr/>
            <p:nvPr/>
          </p:nvSpPr>
          <p:spPr>
            <a:xfrm>
              <a:off x="2120760" y="3444840"/>
              <a:ext cx="4402440" cy="905040"/>
            </a:xfrm>
            <a:prstGeom prst="rect">
              <a:avLst/>
            </a:prstGeom>
            <a:noFill/>
            <a:ln w="57240">
              <a:solidFill>
                <a:srgbClr val="003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2000" spc="-1" strike="noStrike">
                  <a:solidFill>
                    <a:srgbClr val="0033cc"/>
                  </a:solidFill>
                  <a:latin typeface="Nokia Sans Wide"/>
                </a:rPr>
                <a:t>Changes in User Interface 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41480" y="4582800"/>
              <a:ext cx="1263600" cy="1557720"/>
            </a:xfrm>
            <a:prstGeom prst="rect">
              <a:avLst/>
            </a:prstGeom>
            <a:noFill/>
            <a:ln w="57240">
              <a:solidFill>
                <a:srgbClr val="003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i-FI" sz="1800" spc="-1" strike="noStrike">
                  <a:solidFill>
                    <a:srgbClr val="0033cc"/>
                  </a:solidFill>
                  <a:latin typeface="Nokia Sans Wide"/>
                </a:rPr>
                <a:t>changes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2120" y="1895400"/>
            <a:ext cx="9010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1200" spc="-1" strike="noStrike">
                <a:solidFill>
                  <a:srgbClr val="000000"/>
                </a:solidFill>
                <a:latin typeface="Nokia Sans Wide"/>
              </a:rPr>
              <a:t>There will be no configuration options presented to user, these values are  hard coded. There will be only ”Start </a:t>
            </a:r>
            <a:r>
              <a:rPr b="0" lang="fi-FI" sz="12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1200" spc="-1" strike="noStrike">
                <a:solidFill>
                  <a:srgbClr val="000000"/>
                </a:solidFill>
                <a:latin typeface="Nokia Sans Wide"/>
              </a:rPr>
              <a:t>Demo” option to start the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2640" y="2529000"/>
            <a:ext cx="901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NO</a:t>
            </a: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 functional changes are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2000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36cc"/>
                </a:solidFill>
                <a:latin typeface="Nokia Large"/>
              </a:rPr>
              <a:t>High Level Usage Scanario of WSI Sample App in Series 60 Symbian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63640" y="1062000"/>
          <a:ext cx="175896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062000"/>
                    <a:ext cx="175896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647720" y="2838600"/>
            <a:ext cx="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90640" y="3597120"/>
          <a:ext cx="1741320" cy="17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0640" y="3597120"/>
                    <a:ext cx="17413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V="1">
            <a:off x="2639880" y="4568400"/>
            <a:ext cx="885960" cy="9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329080" y="4581000"/>
            <a:ext cx="970200" cy="8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40600" y="5310360"/>
            <a:ext cx="0" cy="63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01640" y="5921280"/>
            <a:ext cx="556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630440" y="540972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24120" y="2065320"/>
            <a:ext cx="1876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Nokia Sans Wide"/>
              </a:rPr>
              <a:t>WSI Demo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38520" y="3019320"/>
            <a:ext cx="1876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Nokia Sans Wide"/>
              </a:rPr>
              <a:t>Shopping C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51600" y="2446200"/>
            <a:ext cx="33386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Nokia Sans Wide"/>
              </a:rPr>
              <a:t>Order Successfu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Nokia Sans Wide"/>
              </a:rPr>
              <a:t>Display Track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Nokia Sans Wide"/>
              </a:rPr>
              <a:t>Not Possible to go back to shoping c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46360" y="3597120"/>
          <a:ext cx="1773360" cy="178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6360" y="3597120"/>
                    <a:ext cx="177336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284880" y="3537000"/>
          <a:ext cx="1825560" cy="185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84880" y="3537000"/>
                    <a:ext cx="18255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340000" y="6068880"/>
            <a:ext cx="4780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Nokia Sans Wide"/>
              </a:rPr>
              <a:t>Return back to the Submit Order page to order mor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10:14:32Z</dcterms:created>
  <dc:creator>Asif Raza</dc:creator>
  <dc:description/>
  <dc:language>en-US</dc:language>
  <cp:lastModifiedBy>Asif Raza</cp:lastModifiedBy>
  <cp:lastPrinted>1998-09-04T08:04:32Z</cp:lastPrinted>
  <dcterms:modified xsi:type="dcterms:W3CDTF">2005-09-19T10:15:15Z</dcterms:modified>
  <cp:revision>11</cp:revision>
  <dc:subject>Nokia PowerPoint template 2005</dc:subject>
  <dc:title>    Introduction to  Nokia Implementation of WSI Sample App in Symbian S60 OS   </dc:title>
</cp:coreProperties>
</file>